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D11-0A47-4CA9-8D92-CD98FE01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229-EBD0-4C7B-8130-0F78096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EAD-AABA-4BA5-BF62-E2280623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1DD-EABF-4FA9-93F6-94182EB5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AB37-9EFF-4C22-9D57-E59B0D3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1EE-86AF-499A-AE10-6F4A740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4BC-F81B-4210-AD9E-E573613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F862-601A-456A-9592-790DB8D7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58C-6AC1-42D6-B316-A005526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0D9-48A5-4CE6-B7B2-4517D7B0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6310-170B-417D-95AA-DE4F4D2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9E5-3ED4-4BF4-B7BA-9757EEE2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E1EB-D1DE-44F6-B801-0ADC88D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B706-3714-48E5-AAB2-D182A99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B18-4ADA-4D59-AC25-6A14A759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49E7-CFA5-4CF6-8ABE-397C1C8E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1360-77BB-4D3B-9D52-8BFD978D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F8BF-F9AB-41B3-AA4D-0467C3F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0816-2044-4126-9550-5845ECB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4EB3-7316-4599-BF6B-6DEA55DB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F01F-97A4-4E98-9866-F913635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DDE6-586F-4A1A-898F-E0600D7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CDB-EA93-4114-9A38-7F3FC43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A72D-039D-4F2C-9B4A-F071182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B0FA-5736-45B4-A055-8AA3912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7ACE-4CB5-4C76-A59E-9F91876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D7B4-E1E1-4FF1-BBBC-8187D6F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13DF-3A6F-4949-9C37-E483F3C9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EE0C-DA84-4B2C-A74F-1A1EA7F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8B45-82EB-419E-9A94-7037A585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C384-29CC-499C-A8DB-4201454E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C457-AE57-4EEC-91BB-322A3F76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0725-7379-4CD3-90DD-9124FEB4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8A7-82A4-453A-BC17-6D3DE1F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0E43-6BAB-4569-AB22-18846638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2515-CDB1-4EE4-A988-CD8158E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FBD5-F162-49DE-93BA-C8C3CD2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6653-E5E2-42C2-B7B7-BE6215E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9DAE-8DEA-4C29-B8BC-45D615D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5A4B-92C9-43F7-9368-65D1A1D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905D-18CB-4E32-9325-CC9843F8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27B8-4712-409D-A6C3-75D4E89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F4CB-5A21-4152-8FB8-C715F1B0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991-F847-4F23-9A35-2ECB6D3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73D-14CF-4F4E-8408-6A45A20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D95-A824-485C-BD0A-E7A477D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3E0-FAEA-4F4F-94FD-1BE1E04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0C3-87F3-46DC-A839-059B990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072E-DFA5-4B8C-9486-79D56EC7A5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8E42-0B9F-46B0-845C-7EBDA311D9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7891-2A1F-43B1-AF5D-906A6C9E3E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5146-8864-4B74-96F1-951DDEA437F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ermutation program to check first if the given number if greater than zero. You should print error message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eturn value in case of error messag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447920" y="1371600"/>
            <a:ext cx="6629400" cy="3933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 perm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&lt;=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"Erro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in range (1,x+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result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four numbers and returns the max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0880" y="3124080"/>
            <a:ext cx="4572000" cy="3018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myMax(x,y,z,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in (y, z, 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n&gt;ma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19920" y="3048120"/>
          <a:ext cx="2133360" cy="3657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=x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y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z=2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N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o 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w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8"/>
          <p:cNvSpPr/>
          <p:nvPr/>
        </p:nvSpPr>
        <p:spPr>
          <a:xfrm>
            <a:off x="5800680" y="236232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(3,6,2,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 y=6 z=2 w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3 numbers and returns the min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9,5,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3,4,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2,-4,8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Parameter Pass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ss a parameter to a function, define it as a variable in the function declaration e.g. def square(lengt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un time, call the function with the value of this parameter e.g. square(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NameID(name,ID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command window wri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NameID(“John”,122898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return va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unction may return a value using return command, e.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6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u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, you should return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unction returns a value, you can use it in ass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  F=mySum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you have defined a variable F that will holds the value that the function mySum() retur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1676520"/>
            <a:ext cx="4572000" cy="4726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Sum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 in (1,2,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mand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=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function to return the summation of numbers in a range starting from x to y, where x and y are parameters passed to your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 mySum(1,3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answer should be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range is required to be inclusive, your range should be (x,y+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f the range is required to be exclusive, your range should be (x+1,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is inclu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600200" y="12193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mySum(x,y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no in 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ran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,y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sum+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9840" y="4724280"/>
            <a:ext cx="61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you can’t have two variables with the sam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returns the multiplication of numbers in range starting from x to 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3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3=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6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3*4*5*6=7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838080" y="1752480"/>
            <a:ext cx="6096240" cy="2044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Mul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f6fc6"/>
                </a:solidFill>
                <a:latin typeface="Arial"/>
              </a:rPr>
              <a:t>mu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 range (x,y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=mul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990720" y="2209680"/>
            <a:ext cx="1523880" cy="53352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8"/>
          <p:cNvCxnSpPr/>
          <p:nvPr/>
        </p:nvCxnSpPr>
        <p:spPr>
          <a:xfrm flipH="1">
            <a:off x="2437560" y="1370520"/>
            <a:ext cx="175356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TextBox 9"/>
          <p:cNvSpPr/>
          <p:nvPr/>
        </p:nvSpPr>
        <p:spPr>
          <a:xfrm>
            <a:off x="4124520" y="990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returns the Permutations of a given number, where the permutation of x is calculated as 1*2*…*x. For example, the permutation of 6 is calculated as 1*2*3*4*5*6=720 and the permutation of 7 is calculated as 1*2*3*4*5*6*7=50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the range of your loop from 1 to th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value should you initialize the permutation wit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Information Technologies</cp:lastModifiedBy>
  <dcterms:modified xsi:type="dcterms:W3CDTF">2009-03-18T19:42:33Z</dcterms:modified>
  <cp:revision>218</cp:revision>
  <dc:subject/>
  <dc:title>CPSC 203</dc:title>
</cp:coreProperties>
</file>